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B9E3-135A-4438-849C-2E052CB04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sues from Compromise of 1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ylor not supporting comprom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ylor dies – Fillmore becomes P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immediately accepted by North or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 issue for Clay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ern radicals lose momen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balanced comprom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– California changes balance, free soilers, reduction 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as l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– partial victory in DC, stronger Runaway Law bu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s fuel for abolitionist m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ion of 185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gs choose Scott over Fillm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of the Whi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forms based on Compromise of 1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slavery and expa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empts to expand military power to Japan, Nicaragua, and Cu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tend Manife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ret plan to buy Cuba from Spain – if not justification to take by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posed by North – dropped by Pie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 issue prohibits external expa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acts of Gadsden Purch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s a southern railroad route to the Pacific protected by federal gover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s Northern demand for railroads through Nebraska Terri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it Nebraska territory into Kansas and Nebraska – maintain sectional balance and provide opportunity for Northern rail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eal Missouri Compromise to allow expansion of sla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thern response to repeal of Missouri Comprom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for Kans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rth of Republican 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d West Party – sectional party focused on no extension of sla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o party – whigs, northern dems, free-soilers, know-noth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night second major party – hated by Southern Democr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ern assumption of Kansas-Nebraska deal was that Kansas w/b slave and Nebraska free – wr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sas too close to call – both sides send ringers to alter 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slavery raiders attack Lawrence Kansas – creates response from John Brown (attack at Pottawatomie Creek) kills f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sas battleground for pro and anti slavery fo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ompton Constitution – condition for statehood proslavery forces create constitution that forces issue (with or w/o slavery) condition protects slave owners already in Kans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ident Buchanan supports constitution – Douglas creates protest and forces popular vote on entire constitution (voted down – delays statehoo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ner vs. Brooks (Mass vs. SC)  Sumner insults proslavers and SC – Brooks beats him with a c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ion of 1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s – pick Old Buck over Pierce and Doug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s – pick John Fremo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-nothings – new wave of antiimmigration and antiCatholic pick Fill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ed Scott v. San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s or status of slaves – people or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ing slaves between free and slav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ity of Missouri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 split in Democra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s sec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sh of 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cy crisis, overproduction of g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 – false sense of Southern economic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tead Act – 160 acres free if improved over 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ariffs – recent tariff reductions blamed for c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-D deb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8 Illinois Senate co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issues on expansion, popular sovereignty, power of the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ern – Douglas (popular sovereign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– Breckinridge – extension of slavery into territories and Cu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party for Union – John 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ard vs. Lincoln – Lincoln viewed as less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 on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6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 votes for special convention four days after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tate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861 – Confederate States of America – Jefferson Da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hanan allows secession w/o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and se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Compromise – se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156-9739-4C1A-AB31-5DAC8FB5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6F8-160B-4FA3-8424-E0DF9B3F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5C0-454F-44EE-A081-1B353686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2C9-6B7E-46F6-9D8F-030774D3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665-6D1A-4A81-A9FC-EC3F3F37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E78-0D6D-4B44-8E1A-318447A4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899-E80D-49BE-BA8C-642875B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E20-7148-4B4C-9D9F-B1DAC8EA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8CA-89CE-4B5C-82E3-FC229B71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ADE-283B-453E-B9CD-CC9715CE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EFD-273E-43FE-8DDF-2AC6D15D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14A-45F6-4BAF-81E6-510DBD7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60EA-066D-426E-9BB3-F4438C2A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Keys 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ompromise of 1850 / Election of 1852 Pages 492-50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ompromise of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lay-Webster vs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ssues /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Election of 18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ndidates /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ierce’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stend Manif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sas-Nebraska A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ges 505- 5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ansas – Nebraska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publican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o, what,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ection of 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red Scott / Lincoln-Dougla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ages 511-5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ed Scot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rash of 18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ncoln vs.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reeport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utur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ise and fall of John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1860 Election / End of the Union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Pages 515-5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litical Part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itutional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ion of 1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rittenden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ession/Border St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30-5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S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ng Shot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Bord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he Comba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Advantages/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Advantages/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2:52:10Z</dcterms:created>
  <dc:creator>School District U46</dc:creator>
  <dc:description/>
  <dc:language>en-US</dc:language>
  <cp:lastModifiedBy>School District U46</cp:lastModifiedBy>
  <dcterms:modified xsi:type="dcterms:W3CDTF">2009-11-30T12:52:23Z</dcterms:modified>
  <cp:revision>1</cp:revision>
  <dc:subject/>
  <dc:title>Unit 6</dc:title>
</cp:coreProperties>
</file>